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OTT%20-%20Escape%20From%20Tulse%20Hell%20-part-.wav" ContentType="audio/x-wav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18F1-DBFA-4D2E-9469-82B5F11B8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65876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C72A-96C4-454A-B8E6-1C6022B4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65876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65876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16DD-BB29-467A-A971-31E7DCDD3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441972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441972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65876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65876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65876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94B5-CA10-4845-8255-F76E7180C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6F46-CA07-414B-B162-6387A0C4C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F1C38-F2F1-48BD-970A-2F323FA0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07039-1E58-4BEE-89F7-E51AEEF5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E7C0-35A1-4FE5-9A34-9B07D47D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C46B-0C18-4BA4-9409-7DFBD64C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380880"/>
            <a:ext cx="7467480" cy="155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C261-61CB-4644-8BEC-3194E24A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65876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5A7B-E40A-484E-82FA-46BC6B30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1B57-C606-4379-B051-5472B430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65876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36EA6-6254-4431-9858-94DBF725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65876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D5A2F-7BFF-48C0-B105-5D59EEA8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65876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64308-632B-40BB-9C5D-66AB9EEC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65876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65876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6FD5-C3A4-4315-B383-D9C746814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441972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441972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65876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65876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65876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0013E-E65A-493E-B868-C954A3E5C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8D32-3E55-4AC8-A62D-0D4AA6E0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90CA-4526-47CB-BDCC-411050A3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90E5-D1BE-4B6D-9E90-E4BA0564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380880"/>
            <a:ext cx="7467480" cy="155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E33F-4F90-43A1-B50F-CDCAE64C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65876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AD2B-6FF1-44D4-9663-58019C10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65876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2637-1E47-4439-9DAE-0637B4DC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65876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7C13-99A0-4147-B003-9B9A591B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240" y="16765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18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2B7E-320D-4839-85A1-20EB4DBA9DD9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371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809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7BB8-5EF5-481D-B18B-C057E65738AE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Gill Sans M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OTT%20-%20Escape%20From%20Tulse%20Hell%20-part-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Gill Sans MT"/>
              </a:rPr>
              <a:t>GUINNESS BOOK OF WORLD RECORDS </a:t>
            </a:r>
            <a:br>
              <a:rPr sz="3200"/>
            </a:br>
            <a:r>
              <a:rPr b="1" lang="en-GB" sz="3200" spc="-1" strike="noStrike">
                <a:solidFill>
                  <a:srgbClr val="808080"/>
                </a:solidFill>
                <a:latin typeface="Gill Sans MT"/>
              </a:rPr>
              <a:t>ENGINEERING FEATS</a:t>
            </a:r>
            <a:r>
              <a:rPr b="0" lang="en-GB" sz="32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740720" y="6381720"/>
            <a:ext cx="9684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Georgia"/>
              </a:rPr>
              <a:t>t@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"/>
          <p:cNvSpPr/>
          <p:nvPr/>
        </p:nvSpPr>
        <p:spPr>
          <a:xfrm>
            <a:off x="5456880" y="2908440"/>
            <a:ext cx="336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music: OTT - Escape From Tulse Hell -part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pull dir="l"/>
    <p:sndAc>
      <p:stSnd>
        <p:snd r:embed="rId2" name="OTT%20-%20Escape%20From%20Tulse%20Hell%20-part-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914400" y="685800"/>
            <a:ext cx="7315200" cy="5753160"/>
            <a:chOff x="914400" y="685800"/>
            <a:chExt cx="7315200" cy="5753160"/>
          </a:xfrm>
        </p:grpSpPr>
        <p:sp>
          <p:nvSpPr>
            <p:cNvPr id="130" name="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14400" y="6210360"/>
              <a:ext cx="73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        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World Water Park ...Edmonton , Albert, Canada ......SIZE..5 Ac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1332000" y="285840"/>
            <a:ext cx="78120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Gill Sans MT"/>
              </a:rPr>
              <a:t>WORLD'S  BIGGEST  INDOOR  SWIMMING-POO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912960" y="685800"/>
            <a:ext cx="7318080" cy="5753160"/>
            <a:chOff x="912960" y="685800"/>
            <a:chExt cx="7318080" cy="5753160"/>
          </a:xfrm>
        </p:grpSpPr>
        <p:sp>
          <p:nvSpPr>
            <p:cNvPr id="135" name=""/>
            <p:cNvSpPr/>
            <p:nvPr/>
          </p:nvSpPr>
          <p:spPr>
            <a:xfrm>
              <a:off x="912960" y="685800"/>
              <a:ext cx="7318080" cy="5486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12960" y="6210360"/>
              <a:ext cx="73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        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New WEMBLEY STADIUM, London ..cost...$1.6 bill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332000" y="285840"/>
            <a:ext cx="78120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  COSTLIEST   STADIUM ... ENGLAND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4705200" y="2416320"/>
            <a:ext cx="4114800" cy="2667960"/>
            <a:chOff x="4705200" y="2416320"/>
            <a:chExt cx="4114800" cy="2667960"/>
          </a:xfrm>
        </p:grpSpPr>
        <p:sp>
          <p:nvSpPr>
            <p:cNvPr id="140" name=""/>
            <p:cNvSpPr/>
            <p:nvPr/>
          </p:nvSpPr>
          <p:spPr>
            <a:xfrm>
              <a:off x="4705200" y="2416320"/>
              <a:ext cx="4114800" cy="24271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05200" y="4856040"/>
              <a:ext cx="41148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BRAZIL ....CAPACITY.199,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95280" y="1771560"/>
            <a:ext cx="4114800" cy="3327480"/>
            <a:chOff x="395280" y="1771560"/>
            <a:chExt cx="4114800" cy="3327480"/>
          </a:xfrm>
        </p:grpSpPr>
        <p:sp>
          <p:nvSpPr>
            <p:cNvPr id="143" name=""/>
            <p:cNvSpPr/>
            <p:nvPr/>
          </p:nvSpPr>
          <p:spPr>
            <a:xfrm>
              <a:off x="395280" y="1771560"/>
              <a:ext cx="4114800" cy="3086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95280" y="4870440"/>
              <a:ext cx="411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MARACANA STADIUM.... RIO D.J.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332000" y="1293840"/>
            <a:ext cx="78120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  BIGGEST   STADIUM ... .BRAZ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212840" y="685800"/>
            <a:ext cx="6718320" cy="5753160"/>
            <a:chOff x="1212840" y="685800"/>
            <a:chExt cx="6718320" cy="5753160"/>
          </a:xfrm>
        </p:grpSpPr>
        <p:sp>
          <p:nvSpPr>
            <p:cNvPr id="148" name=""/>
            <p:cNvSpPr/>
            <p:nvPr/>
          </p:nvSpPr>
          <p:spPr>
            <a:xfrm>
              <a:off x="1212840" y="685800"/>
              <a:ext cx="6718320" cy="5486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2840" y="6210360"/>
              <a:ext cx="6718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    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CHRIST THE REDEEMER STATUE...RIO.D.J... BRAZI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332000" y="285840"/>
            <a:ext cx="78120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  HIGHEST STATUE ..... . BRAZIL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685800" y="968400"/>
            <a:ext cx="7772400" cy="5186160"/>
            <a:chOff x="685800" y="968400"/>
            <a:chExt cx="7772400" cy="5186160"/>
          </a:xfrm>
        </p:grpSpPr>
        <p:sp>
          <p:nvSpPr>
            <p:cNvPr id="153" name=""/>
            <p:cNvSpPr/>
            <p:nvPr/>
          </p:nvSpPr>
          <p:spPr>
            <a:xfrm>
              <a:off x="685800" y="968400"/>
              <a:ext cx="7772400" cy="49197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" y="5925960"/>
              <a:ext cx="777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Basilica of our Lady of Peace, Yamoussoukro Inside sitting capacity.....18,000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Outside overflow capacity..100, 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1187280" y="501480"/>
            <a:ext cx="81378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808080"/>
                </a:solidFill>
                <a:latin typeface="Gill Sans MT"/>
              </a:rPr>
              <a:t>WORLD'S   BIGGEST   ROMAN-CATHOLIC CATHEDRAL ....IVORY-COAST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528480" y="1771560"/>
            <a:ext cx="4114800" cy="3327480"/>
            <a:chOff x="528480" y="1771560"/>
            <a:chExt cx="4114800" cy="3327480"/>
          </a:xfrm>
        </p:grpSpPr>
        <p:sp>
          <p:nvSpPr>
            <p:cNvPr id="158" name=""/>
            <p:cNvSpPr/>
            <p:nvPr/>
          </p:nvSpPr>
          <p:spPr>
            <a:xfrm>
              <a:off x="528480" y="1771560"/>
              <a:ext cx="4114800" cy="3086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8480" y="4870440"/>
              <a:ext cx="411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Winners` C hapel...Canaanland ...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Otta.... Nigeria</a:t>
              </a: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…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686480" y="3157560"/>
            <a:ext cx="4114800" cy="1927080"/>
            <a:chOff x="4686480" y="3157560"/>
            <a:chExt cx="4114800" cy="1927080"/>
          </a:xfrm>
        </p:grpSpPr>
        <p:sp>
          <p:nvSpPr>
            <p:cNvPr id="161" name=""/>
            <p:cNvSpPr/>
            <p:nvPr/>
          </p:nvSpPr>
          <p:spPr>
            <a:xfrm>
              <a:off x="4686480" y="3157560"/>
              <a:ext cx="4114800" cy="16858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686480" y="4856040"/>
              <a:ext cx="411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Inside Sitting Capacity..50,000  Outside Overflow Capacity..250,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332000" y="1293840"/>
            <a:ext cx="78120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  BIGGEST   CHURCH   BUILDING ... NIGE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43080" y="1982880"/>
            <a:ext cx="4114800" cy="2905200"/>
            <a:chOff x="343080" y="1982880"/>
            <a:chExt cx="4114800" cy="2905200"/>
          </a:xfrm>
        </p:grpSpPr>
        <p:sp>
          <p:nvSpPr>
            <p:cNvPr id="166" name=""/>
            <p:cNvSpPr/>
            <p:nvPr/>
          </p:nvSpPr>
          <p:spPr>
            <a:xfrm>
              <a:off x="343080" y="1982880"/>
              <a:ext cx="4114800" cy="26636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3080" y="4659480"/>
              <a:ext cx="411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Shah Feisal mosque... Islamabad 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Pakist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686480" y="1773360"/>
            <a:ext cx="4114800" cy="3120840"/>
            <a:chOff x="4686480" y="1773360"/>
            <a:chExt cx="4114800" cy="3120840"/>
          </a:xfrm>
        </p:grpSpPr>
        <p:sp>
          <p:nvSpPr>
            <p:cNvPr id="169" name=""/>
            <p:cNvSpPr/>
            <p:nvPr/>
          </p:nvSpPr>
          <p:spPr>
            <a:xfrm>
              <a:off x="4686480" y="1773360"/>
              <a:ext cx="4114800" cy="2879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686480" y="4665600"/>
              <a:ext cx="411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Inside hall capacity ..35,000 outside overflow capacity.. 150,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403280" y="1222200"/>
            <a:ext cx="7740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  LARGEST   MOSQUE ...... PAKISTAN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"/>
          <p:cNvSpPr/>
          <p:nvPr/>
        </p:nvSpPr>
        <p:spPr>
          <a:xfrm>
            <a:off x="1332000" y="285840"/>
            <a:ext cx="78120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  BIGGEST   OFFICE   COMPLEX ... CHICAGO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882720" y="685800"/>
            <a:ext cx="7378560" cy="5753160"/>
            <a:chOff x="882720" y="685800"/>
            <a:chExt cx="7378560" cy="5753160"/>
          </a:xfrm>
        </p:grpSpPr>
        <p:sp>
          <p:nvSpPr>
            <p:cNvPr id="175" name=""/>
            <p:cNvSpPr/>
            <p:nvPr/>
          </p:nvSpPr>
          <p:spPr>
            <a:xfrm>
              <a:off x="882720" y="685800"/>
              <a:ext cx="7378560" cy="5486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82720" y="6210360"/>
              <a:ext cx="7378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       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Chicago Merchandise Mart... Illinois, USA_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3080" y="1925640"/>
            <a:ext cx="4114800" cy="3019320"/>
            <a:chOff x="343080" y="1925640"/>
            <a:chExt cx="4114800" cy="3019320"/>
          </a:xfrm>
        </p:grpSpPr>
        <p:sp>
          <p:nvSpPr>
            <p:cNvPr id="179" name=""/>
            <p:cNvSpPr/>
            <p:nvPr/>
          </p:nvSpPr>
          <p:spPr>
            <a:xfrm>
              <a:off x="343080" y="1925640"/>
              <a:ext cx="4114800" cy="27781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43080" y="4716360"/>
              <a:ext cx="411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South China Mall, Dongguan, Chin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686480" y="1922400"/>
            <a:ext cx="4114800" cy="3025800"/>
            <a:chOff x="4686480" y="1922400"/>
            <a:chExt cx="4114800" cy="3025800"/>
          </a:xfrm>
        </p:grpSpPr>
        <p:sp>
          <p:nvSpPr>
            <p:cNvPr id="182" name=""/>
            <p:cNvSpPr/>
            <p:nvPr/>
          </p:nvSpPr>
          <p:spPr>
            <a:xfrm>
              <a:off x="4686480" y="1922400"/>
              <a:ext cx="4114800" cy="27846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86480" y="4719600"/>
              <a:ext cx="411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892,000 meter-square Shops on 6 flo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1403280" y="1509840"/>
            <a:ext cx="7740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  BIGGEST   SHOPPING   MALL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"/>
          <p:cNvSpPr/>
          <p:nvPr/>
        </p:nvSpPr>
        <p:spPr>
          <a:xfrm>
            <a:off x="1332000" y="285840"/>
            <a:ext cx="78120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  BIGGEST   HOTEL ... LAS VEG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914400" y="685800"/>
            <a:ext cx="7315200" cy="5753160"/>
            <a:chOff x="914400" y="685800"/>
            <a:chExt cx="7315200" cy="5753160"/>
          </a:xfrm>
        </p:grpSpPr>
        <p:sp>
          <p:nvSpPr>
            <p:cNvPr id="188" name="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14400" y="6210360"/>
              <a:ext cx="73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       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MGM Grand Hotel..Las Vegas..6,276 room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41240" y="685800"/>
            <a:ext cx="7659720" cy="5753160"/>
            <a:chOff x="741240" y="685800"/>
            <a:chExt cx="7659720" cy="5753160"/>
          </a:xfrm>
        </p:grpSpPr>
        <p:sp>
          <p:nvSpPr>
            <p:cNvPr id="87" name=""/>
            <p:cNvSpPr/>
            <p:nvPr/>
          </p:nvSpPr>
          <p:spPr>
            <a:xfrm>
              <a:off x="741240" y="685800"/>
              <a:ext cx="7659720" cy="5486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1240" y="6210360"/>
              <a:ext cx="7659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         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Built by KRUPP of Germany.....45,500 tons..95 meters high..215 meters lo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187280" y="285840"/>
            <a:ext cx="7956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  BIGGEST   EXCAVA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685800" y="1247760"/>
            <a:ext cx="7772400" cy="4629240"/>
            <a:chOff x="685800" y="1247760"/>
            <a:chExt cx="7772400" cy="4629240"/>
          </a:xfrm>
        </p:grpSpPr>
        <p:sp>
          <p:nvSpPr>
            <p:cNvPr id="192" name=""/>
            <p:cNvSpPr/>
            <p:nvPr/>
          </p:nvSpPr>
          <p:spPr>
            <a:xfrm>
              <a:off x="685800" y="1247760"/>
              <a:ext cx="7772400" cy="4362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5800" y="5648400"/>
              <a:ext cx="777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            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Palace of the Parliament... Bucharest , Romania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            </a:t>
              </a: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m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ore than 500 bedrooms, 55 kitchens,120 sitting roo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1332000" y="790560"/>
            <a:ext cx="78120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  LARGEST   PALACE ...... .ROMANIA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4572000" y="797040"/>
            <a:ext cx="4114800" cy="5727600"/>
            <a:chOff x="4572000" y="797040"/>
            <a:chExt cx="4114800" cy="5727600"/>
          </a:xfrm>
        </p:grpSpPr>
        <p:sp>
          <p:nvSpPr>
            <p:cNvPr id="197" name=""/>
            <p:cNvSpPr/>
            <p:nvPr/>
          </p:nvSpPr>
          <p:spPr>
            <a:xfrm>
              <a:off x="4572000" y="797040"/>
              <a:ext cx="4114800" cy="5486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72000" y="6296040"/>
              <a:ext cx="411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To be finally completed 200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666720" y="765000"/>
            <a:ext cx="3700440" cy="5759280"/>
            <a:chOff x="666720" y="765000"/>
            <a:chExt cx="3700440" cy="5759280"/>
          </a:xfrm>
        </p:grpSpPr>
        <p:sp>
          <p:nvSpPr>
            <p:cNvPr id="200" name=""/>
            <p:cNvSpPr/>
            <p:nvPr/>
          </p:nvSpPr>
          <p:spPr>
            <a:xfrm>
              <a:off x="666720" y="765000"/>
              <a:ext cx="3700440" cy="55263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66720" y="6303240"/>
              <a:ext cx="3700440" cy="2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Burj Dubai....900 meters hig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403280" y="285840"/>
            <a:ext cx="7740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  TALLEST BUILDING ... DUBAI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514600" y="620640"/>
            <a:ext cx="4114800" cy="5753160"/>
            <a:chOff x="2514600" y="620640"/>
            <a:chExt cx="4114800" cy="5753160"/>
          </a:xfrm>
        </p:grpSpPr>
        <p:sp>
          <p:nvSpPr>
            <p:cNvPr id="205" name=""/>
            <p:cNvSpPr/>
            <p:nvPr/>
          </p:nvSpPr>
          <p:spPr>
            <a:xfrm>
              <a:off x="2514600" y="620640"/>
              <a:ext cx="4114800" cy="5486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14600" y="6145200"/>
              <a:ext cx="411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1200" spc="-1" strike="noStrike">
                  <a:solidFill>
                    <a:srgbClr val="4d4d4d"/>
                  </a:solidFill>
                  <a:latin typeface="Arial"/>
                </a:rPr>
                <a:t>Burj Al Arab Hotel, Dubai..only 7 Star Hotel in the World</a:t>
              </a:r>
              <a:r>
                <a:rPr b="0" i="1" lang="el-GR" sz="1400" spc="-1" strike="noStrike">
                  <a:solidFill>
                    <a:srgbClr val="4d4d4d"/>
                  </a:solidFill>
                  <a:latin typeface="Arial"/>
                </a:rPr>
                <a:t> </a:t>
              </a:r>
              <a:br>
                <a:rPr sz="1400"/>
              </a:br>
              <a:r>
                <a:rPr b="0" i="1" lang="el-GR" sz="1400" spc="-1" strike="noStrike">
                  <a:solidFill>
                    <a:srgbClr val="4d4d4d"/>
                  </a:solidFill>
                  <a:latin typeface="Arial"/>
                </a:rPr>
                <a:t>Cheapest room.$1000 per night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1400" spc="-1" strike="noStrike">
                  <a:solidFill>
                    <a:srgbClr val="4d4d4d"/>
                  </a:solidFill>
                  <a:latin typeface="Arial"/>
                </a:rPr>
                <a:t>Royal suit.$28,000 per night 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  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403280" y="285840"/>
            <a:ext cx="7740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  MOST   EXPENSIVE HOTEL. DUBAI . U.A.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Gill Sans MT"/>
              </a:rPr>
              <a:t>GUINNESS BOOK OF WORLD RECORDS </a:t>
            </a:r>
            <a:br>
              <a:rPr sz="3200"/>
            </a:br>
            <a:r>
              <a:rPr b="1" lang="en-GB" sz="3200" spc="-1" strike="noStrike">
                <a:solidFill>
                  <a:srgbClr val="808080"/>
                </a:solidFill>
                <a:latin typeface="Gill Sans MT"/>
              </a:rPr>
              <a:t>ENGINEERING FEATS</a:t>
            </a:r>
            <a:r>
              <a:rPr b="0" lang="en-GB" sz="32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7740720" y="5950080"/>
            <a:ext cx="9684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Georgia"/>
              </a:rPr>
              <a:t>t@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"/>
          <p:cNvSpPr/>
          <p:nvPr/>
        </p:nvSpPr>
        <p:spPr>
          <a:xfrm>
            <a:off x="5456880" y="2908440"/>
            <a:ext cx="336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music: OTT - Escape From Tulse Hell -part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85800" y="2232000"/>
            <a:ext cx="7772400" cy="2658960"/>
            <a:chOff x="685800" y="2232000"/>
            <a:chExt cx="7772400" cy="2658960"/>
          </a:xfrm>
        </p:grpSpPr>
        <p:sp>
          <p:nvSpPr>
            <p:cNvPr id="92" name=""/>
            <p:cNvSpPr/>
            <p:nvPr/>
          </p:nvSpPr>
          <p:spPr>
            <a:xfrm>
              <a:off x="685800" y="2232000"/>
              <a:ext cx="7772400" cy="2392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5800" y="4662360"/>
              <a:ext cx="777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          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Neoplan Jumbo - cruiser....2 in 1 bus..double deck bus..170 passenger capac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258920" y="1654200"/>
            <a:ext cx="78850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BIGGEST BU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912960" y="685800"/>
            <a:ext cx="7318080" cy="5753160"/>
            <a:chOff x="912960" y="685800"/>
            <a:chExt cx="7318080" cy="5753160"/>
          </a:xfrm>
        </p:grpSpPr>
        <p:sp>
          <p:nvSpPr>
            <p:cNvPr id="97" name=""/>
            <p:cNvSpPr/>
            <p:nvPr/>
          </p:nvSpPr>
          <p:spPr>
            <a:xfrm>
              <a:off x="912960" y="685800"/>
              <a:ext cx="7318080" cy="5486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12960" y="6210360"/>
              <a:ext cx="73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       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MS Freedom of the Seas..4300 passenger Capacity Insi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1258920" y="285840"/>
            <a:ext cx="78850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  BIGGEST   PASSENGER-SHI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950760" y="685800"/>
            <a:ext cx="7242480" cy="5753160"/>
            <a:chOff x="950760" y="685800"/>
            <a:chExt cx="7242480" cy="5753160"/>
          </a:xfrm>
        </p:grpSpPr>
        <p:sp>
          <p:nvSpPr>
            <p:cNvPr id="102" name=""/>
            <p:cNvSpPr/>
            <p:nvPr/>
          </p:nvSpPr>
          <p:spPr>
            <a:xfrm>
              <a:off x="950760" y="685800"/>
              <a:ext cx="7242480" cy="5486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50760" y="6210360"/>
              <a:ext cx="7242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     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Airbus A380.....555 Passeng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1332000" y="285840"/>
            <a:ext cx="78120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  BIGGEST   PLANE .... AIRB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43080" y="1947960"/>
            <a:ext cx="4114800" cy="2973240"/>
            <a:chOff x="343080" y="1947960"/>
            <a:chExt cx="4114800" cy="2973240"/>
          </a:xfrm>
        </p:grpSpPr>
        <p:sp>
          <p:nvSpPr>
            <p:cNvPr id="107" name=""/>
            <p:cNvSpPr/>
            <p:nvPr/>
          </p:nvSpPr>
          <p:spPr>
            <a:xfrm>
              <a:off x="343080" y="1947960"/>
              <a:ext cx="4114800" cy="27320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43080" y="4692600"/>
              <a:ext cx="411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J.F.K International Airport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686480" y="1944720"/>
            <a:ext cx="4114800" cy="2981160"/>
            <a:chOff x="4686480" y="1944720"/>
            <a:chExt cx="4114800" cy="2981160"/>
          </a:xfrm>
        </p:grpSpPr>
        <p:sp>
          <p:nvSpPr>
            <p:cNvPr id="110" name=""/>
            <p:cNvSpPr/>
            <p:nvPr/>
          </p:nvSpPr>
          <p:spPr>
            <a:xfrm>
              <a:off x="4686480" y="1944720"/>
              <a:ext cx="4114800" cy="27399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686480" y="4697280"/>
              <a:ext cx="411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New York ........US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332000" y="1438200"/>
            <a:ext cx="78120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  BUSIEST   AIRPORT..... NEW YORK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685800" y="2552760"/>
            <a:ext cx="7772400" cy="2017800"/>
            <a:chOff x="685800" y="2552760"/>
            <a:chExt cx="7772400" cy="2017800"/>
          </a:xfrm>
        </p:grpSpPr>
        <p:sp>
          <p:nvSpPr>
            <p:cNvPr id="115" name=""/>
            <p:cNvSpPr/>
            <p:nvPr/>
          </p:nvSpPr>
          <p:spPr>
            <a:xfrm>
              <a:off x="685800" y="2552760"/>
              <a:ext cx="7772400" cy="17510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5800" y="4341960"/>
              <a:ext cx="777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             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Sydney harbor bridge, Australia ....16 lanes of car traffic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             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8 lanes in the upper floor, 8 in the lower flo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403280" y="2014560"/>
            <a:ext cx="7740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  WIDEST   BRIDGE .. AUSTRALIA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85800" y="954000"/>
            <a:ext cx="7772400" cy="5216760"/>
            <a:chOff x="685800" y="954000"/>
            <a:chExt cx="7772400" cy="5216760"/>
          </a:xfrm>
        </p:grpSpPr>
        <p:sp>
          <p:nvSpPr>
            <p:cNvPr id="120" name=""/>
            <p:cNvSpPr/>
            <p:nvPr/>
          </p:nvSpPr>
          <p:spPr>
            <a:xfrm>
              <a:off x="685800" y="954000"/>
              <a:ext cx="7772400" cy="4950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85800" y="5942160"/>
              <a:ext cx="777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            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Donghai Bridge , China ........32.5 kilomet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1332000" y="501480"/>
            <a:ext cx="78120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  LONGEST   BRIDGE ..... CHINA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912960" y="685800"/>
            <a:ext cx="7318080" cy="5753160"/>
            <a:chOff x="912960" y="685800"/>
            <a:chExt cx="7318080" cy="5753160"/>
          </a:xfrm>
        </p:grpSpPr>
        <p:sp>
          <p:nvSpPr>
            <p:cNvPr id="125" name=""/>
            <p:cNvSpPr/>
            <p:nvPr/>
          </p:nvSpPr>
          <p:spPr>
            <a:xfrm>
              <a:off x="912960" y="685800"/>
              <a:ext cx="7318080" cy="5486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12960" y="6210360"/>
              <a:ext cx="73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        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Interstate 10 Highways Interchange.. Houston , Tex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332000" y="285840"/>
            <a:ext cx="78120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MOST   COMPLEX   INTER-CHANGE ... TEXA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18:59:13Z</dcterms:created>
  <dc:creator>Yiorgos Evlogimenos</dc:creator>
  <dc:description/>
  <dc:language>en-US</dc:language>
  <cp:lastModifiedBy>Yiorgos Evlogimenos</cp:lastModifiedBy>
  <dcterms:modified xsi:type="dcterms:W3CDTF">2008-01-19T20:32:59Z</dcterms:modified>
  <cp:revision>9</cp:revision>
  <dc:subject/>
  <dc:title>GUINNESS BOOK OF WORLD RECORDS  ENGINEERING FEATS </dc:title>
</cp:coreProperties>
</file>