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OTT%20-%20Escape%20From%20Tulse%20Hell%20-part-.wav" ContentType="audio/x-wav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429-C71E-4CF1-BD11-D0893E59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962-EC70-476F-B785-5A352BD0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0B9-AA6B-462A-BE1A-533DCB5E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3AB-46AD-46E3-B3AE-AE479DFF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7D8-DCDA-4EA8-B280-2AF0ABBD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0EDA-6BFF-435F-907C-419BFEC4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F12A-2E7F-4C8B-86B1-2BF9C70F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DE75-7CD0-4B39-AF65-A3A09EE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980F-61D8-4A2B-AAED-C9C43CC4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380880"/>
            <a:ext cx="7467480" cy="155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8780-E9E7-4F94-89CD-91C8FC46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5E0F-C523-4EB8-91AF-FF21DCD9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3A8-D9A3-4426-AB70-D6CAA112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6EBD-196E-4022-9EAB-09121834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A898-ED98-48E4-929E-72D11986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6332-022C-4E3D-80BE-93AE06B1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8288-D618-413B-95AE-C9F4FEEE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15F9-2DDA-4E1B-809B-754C3132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698-19CC-4C68-9EA9-92636290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717-4B5C-4F8E-863A-D55FA27A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A252-682E-4BEC-A06A-536C1559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380880"/>
            <a:ext cx="7467480" cy="155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D61-C6F1-4638-A5DF-AD1344CF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8EA-7668-466A-A478-C80B719F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ADE-281F-4D26-B431-19EB17A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71C-5B62-4840-BA69-AC2625E1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31BE-D51A-4CBF-BEB4-09BE1C048F03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371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809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4394-AE83-4297-9D96-F1D4C65CA961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OTT%20-%20Escape%20From%20Tulse%20Hell%20-part-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GUINNESS BOOK OF WORLD RECORDS </a:t>
            </a:r>
            <a:br>
              <a:rPr sz="3200"/>
            </a:b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ENGINEERING FEATS</a:t>
            </a:r>
            <a:r>
              <a:rPr b="0" lang="en-GB" sz="32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40720" y="6381720"/>
            <a:ext cx="968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Georgia"/>
              </a:rPr>
              <a:t>t@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"/>
          <p:cNvSpPr/>
          <p:nvPr/>
        </p:nvSpPr>
        <p:spPr>
          <a:xfrm>
            <a:off x="5456880" y="290844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music: OTT - Escape From Tulse Hell -par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ull dir="l"/>
    <p:sndAc>
      <p:stSnd>
        <p:snd r:embed="rId2" name="OTT%20-%20Escape%20From%20Tulse%20Hell%20-part-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30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World Water Park ...Edmonton , Albert, Canada ......SIZE..5 Ac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Gill Sans MT"/>
              </a:rPr>
              <a:t>WORLD'S  BIGGEST  INDOOR  SWIMMING-P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135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w WEMBLEY STADIUM, London ..cost...$1.6 bil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COSTLIEST   STADIUM ... ENGLAND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705200" y="2416320"/>
            <a:ext cx="4114800" cy="2667960"/>
            <a:chOff x="4705200" y="2416320"/>
            <a:chExt cx="4114800" cy="2667960"/>
          </a:xfrm>
        </p:grpSpPr>
        <p:sp>
          <p:nvSpPr>
            <p:cNvPr id="140" name=""/>
            <p:cNvSpPr/>
            <p:nvPr/>
          </p:nvSpPr>
          <p:spPr>
            <a:xfrm>
              <a:off x="4705200" y="2416320"/>
              <a:ext cx="4114800" cy="2427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5200" y="4856040"/>
              <a:ext cx="4114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RAZIL ....CAPACITY.199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5280" y="1771560"/>
            <a:ext cx="4114800" cy="3327480"/>
            <a:chOff x="395280" y="1771560"/>
            <a:chExt cx="4114800" cy="3327480"/>
          </a:xfrm>
        </p:grpSpPr>
        <p:sp>
          <p:nvSpPr>
            <p:cNvPr id="143" name=""/>
            <p:cNvSpPr/>
            <p:nvPr/>
          </p:nvSpPr>
          <p:spPr>
            <a:xfrm>
              <a:off x="395280" y="1771560"/>
              <a:ext cx="4114800" cy="3086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5280" y="48704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ARACANA STADIUM.... RIO D.J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332000" y="1293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STADIUM ... .BRAZ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2840" y="685800"/>
            <a:ext cx="6718320" cy="5753160"/>
            <a:chOff x="1212840" y="685800"/>
            <a:chExt cx="6718320" cy="5753160"/>
          </a:xfrm>
        </p:grpSpPr>
        <p:sp>
          <p:nvSpPr>
            <p:cNvPr id="148" name=""/>
            <p:cNvSpPr/>
            <p:nvPr/>
          </p:nvSpPr>
          <p:spPr>
            <a:xfrm>
              <a:off x="1212840" y="685800"/>
              <a:ext cx="671832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2840" y="6210360"/>
              <a:ext cx="6718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CHRIST THE REDEEMER STATUE...RIO.D.J... BRAZ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HIGHEST STATUE ..... . BRAZI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85800" y="968400"/>
            <a:ext cx="7772400" cy="5186160"/>
            <a:chOff x="685800" y="968400"/>
            <a:chExt cx="7772400" cy="5186160"/>
          </a:xfrm>
        </p:grpSpPr>
        <p:sp>
          <p:nvSpPr>
            <p:cNvPr id="153" name=""/>
            <p:cNvSpPr/>
            <p:nvPr/>
          </p:nvSpPr>
          <p:spPr>
            <a:xfrm>
              <a:off x="685800" y="968400"/>
              <a:ext cx="7772400" cy="4919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" y="59259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asilica of our Lady of Peace, Yamoussoukro Inside sitting capacity.....18,000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utside overflow capacity..100, 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187280" y="501480"/>
            <a:ext cx="8137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08080"/>
                </a:solidFill>
                <a:latin typeface="Gill Sans MT"/>
              </a:rPr>
              <a:t>WORLD'S   BIGGEST   ROMAN-CATHOLIC CATHEDRAL ....IVORY-COAST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28480" y="1771560"/>
            <a:ext cx="4114800" cy="3327480"/>
            <a:chOff x="528480" y="1771560"/>
            <a:chExt cx="4114800" cy="3327480"/>
          </a:xfrm>
        </p:grpSpPr>
        <p:sp>
          <p:nvSpPr>
            <p:cNvPr id="158" name=""/>
            <p:cNvSpPr/>
            <p:nvPr/>
          </p:nvSpPr>
          <p:spPr>
            <a:xfrm>
              <a:off x="528480" y="1771560"/>
              <a:ext cx="4114800" cy="308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8480" y="48704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Winners` C hapel...Canaanland .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tta.... Nigeria</a:t>
              </a: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…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686480" y="3157560"/>
            <a:ext cx="4114800" cy="1927080"/>
            <a:chOff x="4686480" y="3157560"/>
            <a:chExt cx="4114800" cy="1927080"/>
          </a:xfrm>
        </p:grpSpPr>
        <p:sp>
          <p:nvSpPr>
            <p:cNvPr id="161" name=""/>
            <p:cNvSpPr/>
            <p:nvPr/>
          </p:nvSpPr>
          <p:spPr>
            <a:xfrm>
              <a:off x="4686480" y="3157560"/>
              <a:ext cx="4114800" cy="1685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86480" y="48560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side Sitting Capacity..50,000  Outside Overflow Capacity..25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32000" y="1293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CHURCH   BUILDING ... NIGE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3080" y="1982880"/>
            <a:ext cx="4114800" cy="2905200"/>
            <a:chOff x="343080" y="1982880"/>
            <a:chExt cx="4114800" cy="2905200"/>
          </a:xfrm>
        </p:grpSpPr>
        <p:sp>
          <p:nvSpPr>
            <p:cNvPr id="166" name=""/>
            <p:cNvSpPr/>
            <p:nvPr/>
          </p:nvSpPr>
          <p:spPr>
            <a:xfrm>
              <a:off x="343080" y="1982880"/>
              <a:ext cx="4114800" cy="26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080" y="465948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hah Feisal mosque... Islamabad 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Pakist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686480" y="1773360"/>
            <a:ext cx="4114800" cy="3120840"/>
            <a:chOff x="4686480" y="1773360"/>
            <a:chExt cx="4114800" cy="3120840"/>
          </a:xfrm>
        </p:grpSpPr>
        <p:sp>
          <p:nvSpPr>
            <p:cNvPr id="169" name=""/>
            <p:cNvSpPr/>
            <p:nvPr/>
          </p:nvSpPr>
          <p:spPr>
            <a:xfrm>
              <a:off x="4686480" y="1773360"/>
              <a:ext cx="4114800" cy="28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6480" y="4665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side hall capacity ..35,000 outside overflow capacity.. 15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403280" y="122220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ARGEST   MOSQUE ...... PAKISTA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OFFICE   COMPLEX ... CHICAGO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82720" y="685800"/>
            <a:ext cx="7378560" cy="5753160"/>
            <a:chOff x="882720" y="685800"/>
            <a:chExt cx="7378560" cy="5753160"/>
          </a:xfrm>
        </p:grpSpPr>
        <p:sp>
          <p:nvSpPr>
            <p:cNvPr id="175" name=""/>
            <p:cNvSpPr/>
            <p:nvPr/>
          </p:nvSpPr>
          <p:spPr>
            <a:xfrm>
              <a:off x="882720" y="685800"/>
              <a:ext cx="737856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2720" y="6210360"/>
              <a:ext cx="737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Chicago Merchandise Mart... Illinois, USA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3080" y="1925640"/>
            <a:ext cx="4114800" cy="3019320"/>
            <a:chOff x="343080" y="1925640"/>
            <a:chExt cx="4114800" cy="3019320"/>
          </a:xfrm>
        </p:grpSpPr>
        <p:sp>
          <p:nvSpPr>
            <p:cNvPr id="179" name=""/>
            <p:cNvSpPr/>
            <p:nvPr/>
          </p:nvSpPr>
          <p:spPr>
            <a:xfrm>
              <a:off x="343080" y="1925640"/>
              <a:ext cx="4114800" cy="27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3080" y="471636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outh China Mall, Dongguan, Chi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86480" y="1922400"/>
            <a:ext cx="4114800" cy="3025800"/>
            <a:chOff x="4686480" y="1922400"/>
            <a:chExt cx="4114800" cy="3025800"/>
          </a:xfrm>
        </p:grpSpPr>
        <p:sp>
          <p:nvSpPr>
            <p:cNvPr id="182" name=""/>
            <p:cNvSpPr/>
            <p:nvPr/>
          </p:nvSpPr>
          <p:spPr>
            <a:xfrm>
              <a:off x="4686480" y="1922400"/>
              <a:ext cx="4114800" cy="278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86480" y="4719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892,000 meter-square Shops on 6 flo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403280" y="1509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SHOPPING   MAL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HOTEL ... LAS VE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88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GM Grand Hotel..Las Vegas..6,276 room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41240" y="685800"/>
            <a:ext cx="7659720" cy="5753160"/>
            <a:chOff x="741240" y="685800"/>
            <a:chExt cx="7659720" cy="5753160"/>
          </a:xfrm>
        </p:grpSpPr>
        <p:sp>
          <p:nvSpPr>
            <p:cNvPr id="87" name=""/>
            <p:cNvSpPr/>
            <p:nvPr/>
          </p:nvSpPr>
          <p:spPr>
            <a:xfrm>
              <a:off x="741240" y="685800"/>
              <a:ext cx="765972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1240" y="6210360"/>
              <a:ext cx="765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uilt by KRUPP of Germany.....45,500 tons..95 meters high..215 meters lo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187280" y="285840"/>
            <a:ext cx="7956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EXCAV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85800" y="1247760"/>
            <a:ext cx="7772400" cy="4629240"/>
            <a:chOff x="685800" y="1247760"/>
            <a:chExt cx="7772400" cy="4629240"/>
          </a:xfrm>
        </p:grpSpPr>
        <p:sp>
          <p:nvSpPr>
            <p:cNvPr id="192" name=""/>
            <p:cNvSpPr/>
            <p:nvPr/>
          </p:nvSpPr>
          <p:spPr>
            <a:xfrm>
              <a:off x="685800" y="1247760"/>
              <a:ext cx="7772400" cy="4362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564840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Palace of the Parliament... Bucharest , Romania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m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re than 500 bedrooms, 55 kitchens,120 sitting roo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332000" y="79056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ARGEST   PALACE ...... .ROMANI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72000" y="797040"/>
            <a:ext cx="4114800" cy="5727600"/>
            <a:chOff x="4572000" y="797040"/>
            <a:chExt cx="4114800" cy="5727600"/>
          </a:xfrm>
        </p:grpSpPr>
        <p:sp>
          <p:nvSpPr>
            <p:cNvPr id="197" name=""/>
            <p:cNvSpPr/>
            <p:nvPr/>
          </p:nvSpPr>
          <p:spPr>
            <a:xfrm>
              <a:off x="4572000" y="797040"/>
              <a:ext cx="41148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0" y="62960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To be finally completed 2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66720" y="765000"/>
            <a:ext cx="3700440" cy="5759280"/>
            <a:chOff x="666720" y="765000"/>
            <a:chExt cx="3700440" cy="5759280"/>
          </a:xfrm>
        </p:grpSpPr>
        <p:sp>
          <p:nvSpPr>
            <p:cNvPr id="200" name=""/>
            <p:cNvSpPr/>
            <p:nvPr/>
          </p:nvSpPr>
          <p:spPr>
            <a:xfrm>
              <a:off x="666720" y="765000"/>
              <a:ext cx="3700440" cy="5526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6720" y="6303240"/>
              <a:ext cx="370044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urj Dubai....900 meters 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403280" y="285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TALLEST BUILDING ... DUBAI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14600" y="620640"/>
            <a:ext cx="4114800" cy="5753160"/>
            <a:chOff x="2514600" y="620640"/>
            <a:chExt cx="4114800" cy="5753160"/>
          </a:xfrm>
        </p:grpSpPr>
        <p:sp>
          <p:nvSpPr>
            <p:cNvPr id="205" name=""/>
            <p:cNvSpPr/>
            <p:nvPr/>
          </p:nvSpPr>
          <p:spPr>
            <a:xfrm>
              <a:off x="2514600" y="620640"/>
              <a:ext cx="41148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4600" y="61452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200" spc="-1" strike="noStrike">
                  <a:solidFill>
                    <a:srgbClr val="4d4d4d"/>
                  </a:solidFill>
                  <a:latin typeface="Arial"/>
                </a:rPr>
                <a:t>Burj Al Arab Hotel, Dubai..only 7 Star Hotel in the World</a:t>
              </a: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Cheapest room.$1000 per nigh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Royal suit.$28,000 per night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  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03280" y="285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  MOST   EXPENSIVE HOTEL. DUBAI . U.A.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GUINNESS BOOK OF WORLD RECORDS </a:t>
            </a:r>
            <a:br>
              <a:rPr sz="3200"/>
            </a:b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ENGINEERING FEATS</a:t>
            </a:r>
            <a:r>
              <a:rPr b="0" lang="en-GB" sz="32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740720" y="5950080"/>
            <a:ext cx="968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Georgia"/>
              </a:rPr>
              <a:t>t@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"/>
          <p:cNvSpPr/>
          <p:nvPr/>
        </p:nvSpPr>
        <p:spPr>
          <a:xfrm>
            <a:off x="5456880" y="290844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music: OTT - Escape From Tulse Hell -par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2232000"/>
            <a:ext cx="7772400" cy="2658960"/>
            <a:chOff x="685800" y="2232000"/>
            <a:chExt cx="7772400" cy="2658960"/>
          </a:xfrm>
        </p:grpSpPr>
        <p:sp>
          <p:nvSpPr>
            <p:cNvPr id="92" name=""/>
            <p:cNvSpPr/>
            <p:nvPr/>
          </p:nvSpPr>
          <p:spPr>
            <a:xfrm>
              <a:off x="685800" y="2232000"/>
              <a:ext cx="7772400" cy="239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46623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oplan Jumbo - cruiser....2 in 1 bus..double deck bus..170 passenger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258920" y="1654200"/>
            <a:ext cx="788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BIGGEST BU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97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S Freedom of the Seas..4300 passenger Capacity Ins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58920" y="285840"/>
            <a:ext cx="788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PASSENGER-SH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50760" y="685800"/>
            <a:ext cx="7242480" cy="5753160"/>
            <a:chOff x="950760" y="685800"/>
            <a:chExt cx="7242480" cy="5753160"/>
          </a:xfrm>
        </p:grpSpPr>
        <p:sp>
          <p:nvSpPr>
            <p:cNvPr id="102" name=""/>
            <p:cNvSpPr/>
            <p:nvPr/>
          </p:nvSpPr>
          <p:spPr>
            <a:xfrm>
              <a:off x="950760" y="685800"/>
              <a:ext cx="72424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50760" y="6210360"/>
              <a:ext cx="724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Airbus A380.....555 Passen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PLANE .... AIRB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3080" y="1947960"/>
            <a:ext cx="4114800" cy="2973240"/>
            <a:chOff x="343080" y="1947960"/>
            <a:chExt cx="4114800" cy="2973240"/>
          </a:xfrm>
        </p:grpSpPr>
        <p:sp>
          <p:nvSpPr>
            <p:cNvPr id="107" name=""/>
            <p:cNvSpPr/>
            <p:nvPr/>
          </p:nvSpPr>
          <p:spPr>
            <a:xfrm>
              <a:off x="343080" y="1947960"/>
              <a:ext cx="4114800" cy="2732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3080" y="4692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J.F.K International Airport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86480" y="1944720"/>
            <a:ext cx="4114800" cy="2981160"/>
            <a:chOff x="4686480" y="1944720"/>
            <a:chExt cx="4114800" cy="2981160"/>
          </a:xfrm>
        </p:grpSpPr>
        <p:sp>
          <p:nvSpPr>
            <p:cNvPr id="110" name=""/>
            <p:cNvSpPr/>
            <p:nvPr/>
          </p:nvSpPr>
          <p:spPr>
            <a:xfrm>
              <a:off x="4686480" y="1944720"/>
              <a:ext cx="4114800" cy="2739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86480" y="469728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w York ........U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332000" y="143820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USIEST   AIRPORT..... NEW YORK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2552760"/>
            <a:ext cx="7772400" cy="2017800"/>
            <a:chOff x="685800" y="2552760"/>
            <a:chExt cx="7772400" cy="2017800"/>
          </a:xfrm>
        </p:grpSpPr>
        <p:sp>
          <p:nvSpPr>
            <p:cNvPr id="115" name=""/>
            <p:cNvSpPr/>
            <p:nvPr/>
          </p:nvSpPr>
          <p:spPr>
            <a:xfrm>
              <a:off x="685800" y="2552760"/>
              <a:ext cx="7772400" cy="1751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3419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ydney harbor bridge, Australia ....16 lanes of car traffic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8 lanes in the upper floor, 8 in the lower flo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03280" y="201456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WIDEST   BRIDGE .. AUSTRALI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954000"/>
            <a:ext cx="7772400" cy="5216760"/>
            <a:chOff x="685800" y="954000"/>
            <a:chExt cx="7772400" cy="5216760"/>
          </a:xfrm>
        </p:grpSpPr>
        <p:sp>
          <p:nvSpPr>
            <p:cNvPr id="120" name=""/>
            <p:cNvSpPr/>
            <p:nvPr/>
          </p:nvSpPr>
          <p:spPr>
            <a:xfrm>
              <a:off x="685800" y="954000"/>
              <a:ext cx="7772400" cy="4950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" y="59421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Donghai Bridge , China ........32.5 kilome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32000" y="50148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ONGEST   BRIDGE ..... CHIN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125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terstate 10 Highways Interchange.. Houston , Tex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MOST   COMPLEX   INTER-CHANGE ... TEXA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8:59:13Z</dcterms:created>
  <dc:creator>Yiorgos Evlogimenos</dc:creator>
  <dc:description/>
  <dc:language>en-US</dc:language>
  <cp:lastModifiedBy>Yiorgos Evlogimenos</cp:lastModifiedBy>
  <dcterms:modified xsi:type="dcterms:W3CDTF">2008-01-19T20:32:59Z</dcterms:modified>
  <cp:revision>9</cp:revision>
  <dc:subject/>
  <dc:title>GUINNESS BOOK OF WORLD RECORDS  ENGINEERING FEATS </dc:title>
</cp:coreProperties>
</file>