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OTT%20-%20Escape%20From%20Tulse%20Hell%20-part-.wav" ContentType="audio/x-wav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BB6-AF6C-4780-A1BF-B8E924F1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6EB-092F-4D65-B651-8E2165A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E87-68C3-48F0-9C74-B3C50E88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603-0293-4FC7-9430-B9DDE368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6BA6-4AE2-4222-956D-8C2BB9FC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7E71-9EA9-4EE5-A3AC-71B3CFE9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7CCD-342E-4C9E-B9BE-62896CA0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7F16-2A68-42E1-8DB1-E1BAB73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D00-577D-40A3-834A-A7908C6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7D3-74C1-4101-8A72-2BA3812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9C13-7924-45E8-831A-ED037DB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563-5078-45B2-B019-EF961AD1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E364-32F5-4818-8A82-0B1D8D0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8C3-175A-4A2C-8C70-A3AAC93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EF5B-4DE7-4524-8D42-08CC91E5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9F4-D3F0-451A-B23F-208AF69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D500-75C5-416A-8CFC-DB7613F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3AD-FCD8-4CA8-81C8-A3D1F333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59B-6187-41CC-89DD-3C16ABB2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73D-BDCF-40C5-9078-98C868DC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FF3-7C1C-446D-9337-8CF89588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CC8-2EAA-45EC-8520-4E345C5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A6D-C980-4FD8-9787-7C57BAD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F3A-9479-4B97-9936-D23D463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9E7-3A59-45D6-A56C-281736D0DE9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371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9BD-F440-4715-9AA3-4C852C2B248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OTT%20-%20Escape%20From%20Tulse%20Hell%20-part-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40720" y="6381720"/>
            <a:ext cx="968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  <p:sndAc>
      <p:stSnd>
        <p:snd r:embed="rId2" name="OTT%20-%20Escape%20From%20Tulse%20Hell%20-part-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orld Water Park ...Edmonton , Albert, Canada ......SIZE..5 Ac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WORLD'S  BIGGEST  INDOOR  SWIMMING-P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3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WEMBLEY STADIUM, London ..cost...$1.6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COSTLIEST   STADIUM ... ENGLAND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05200" y="2416320"/>
            <a:ext cx="4114800" cy="2667960"/>
            <a:chOff x="4705200" y="2416320"/>
            <a:chExt cx="4114800" cy="2667960"/>
          </a:xfrm>
        </p:grpSpPr>
        <p:sp>
          <p:nvSpPr>
            <p:cNvPr id="140" name=""/>
            <p:cNvSpPr/>
            <p:nvPr/>
          </p:nvSpPr>
          <p:spPr>
            <a:xfrm>
              <a:off x="4705200" y="2416320"/>
              <a:ext cx="4114800" cy="2427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5200" y="4856040"/>
              <a:ext cx="411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RAZIL ....CAPACITY.199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5280" y="1771560"/>
            <a:ext cx="4114800" cy="3327480"/>
            <a:chOff x="395280" y="1771560"/>
            <a:chExt cx="4114800" cy="3327480"/>
          </a:xfrm>
        </p:grpSpPr>
        <p:sp>
          <p:nvSpPr>
            <p:cNvPr id="143" name=""/>
            <p:cNvSpPr/>
            <p:nvPr/>
          </p:nvSpPr>
          <p:spPr>
            <a:xfrm>
              <a:off x="395280" y="1771560"/>
              <a:ext cx="4114800" cy="3086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ARACANA STADIUM.... RIO D.J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TADIUM ... .BRAZ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840" y="685800"/>
            <a:ext cx="6718320" cy="5753160"/>
            <a:chOff x="1212840" y="685800"/>
            <a:chExt cx="6718320" cy="5753160"/>
          </a:xfrm>
        </p:grpSpPr>
        <p:sp>
          <p:nvSpPr>
            <p:cNvPr id="148" name=""/>
            <p:cNvSpPr/>
            <p:nvPr/>
          </p:nvSpPr>
          <p:spPr>
            <a:xfrm>
              <a:off x="1212840" y="685800"/>
              <a:ext cx="67183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2840" y="6210360"/>
              <a:ext cx="67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RIST THE REDEEMER STATUE...RIO.D.J... BRAZ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HIGHEST STATUE ..... . BRAZI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5800" y="968400"/>
            <a:ext cx="7772400" cy="5186160"/>
            <a:chOff x="685800" y="968400"/>
            <a:chExt cx="7772400" cy="5186160"/>
          </a:xfrm>
        </p:grpSpPr>
        <p:sp>
          <p:nvSpPr>
            <p:cNvPr id="153" name=""/>
            <p:cNvSpPr/>
            <p:nvPr/>
          </p:nvSpPr>
          <p:spPr>
            <a:xfrm>
              <a:off x="685800" y="968400"/>
              <a:ext cx="7772400" cy="491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5925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asilica of our Lady of Peace, Yamoussoukro Inside sitting capacity.....18,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utside overflow capacity..100, 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87280" y="501480"/>
            <a:ext cx="813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08080"/>
                </a:solidFill>
                <a:latin typeface="Gill Sans MT"/>
              </a:rPr>
              <a:t>WORLD'S   BIGGEST   ROMAN-CATHOLIC CATHEDRAL ....IVORY-COAS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8480" y="1771560"/>
            <a:ext cx="4114800" cy="3327480"/>
            <a:chOff x="528480" y="1771560"/>
            <a:chExt cx="4114800" cy="3327480"/>
          </a:xfrm>
        </p:grpSpPr>
        <p:sp>
          <p:nvSpPr>
            <p:cNvPr id="158" name=""/>
            <p:cNvSpPr/>
            <p:nvPr/>
          </p:nvSpPr>
          <p:spPr>
            <a:xfrm>
              <a:off x="528480" y="1771560"/>
              <a:ext cx="4114800" cy="308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84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inners` C hapel...Canaanland .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tta.... Nigeria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…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86480" y="3157560"/>
            <a:ext cx="4114800" cy="1927080"/>
            <a:chOff x="4686480" y="3157560"/>
            <a:chExt cx="4114800" cy="1927080"/>
          </a:xfrm>
        </p:grpSpPr>
        <p:sp>
          <p:nvSpPr>
            <p:cNvPr id="161" name=""/>
            <p:cNvSpPr/>
            <p:nvPr/>
          </p:nvSpPr>
          <p:spPr>
            <a:xfrm>
              <a:off x="4686480" y="3157560"/>
              <a:ext cx="4114800" cy="1685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86480" y="485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Sitting Capacity..50,000  Outside Overflow Capacity..2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CHURCH   BUILDING ... NIG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3080" y="1982880"/>
            <a:ext cx="4114800" cy="2905200"/>
            <a:chOff x="343080" y="1982880"/>
            <a:chExt cx="4114800" cy="2905200"/>
          </a:xfrm>
        </p:grpSpPr>
        <p:sp>
          <p:nvSpPr>
            <p:cNvPr id="166" name=""/>
            <p:cNvSpPr/>
            <p:nvPr/>
          </p:nvSpPr>
          <p:spPr>
            <a:xfrm>
              <a:off x="343080" y="1982880"/>
              <a:ext cx="4114800" cy="26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80" y="46594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hah Feisal mosque... Islamabad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kis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6480" y="1773360"/>
            <a:ext cx="4114800" cy="3120840"/>
            <a:chOff x="4686480" y="1773360"/>
            <a:chExt cx="4114800" cy="3120840"/>
          </a:xfrm>
        </p:grpSpPr>
        <p:sp>
          <p:nvSpPr>
            <p:cNvPr id="169" name=""/>
            <p:cNvSpPr/>
            <p:nvPr/>
          </p:nvSpPr>
          <p:spPr>
            <a:xfrm>
              <a:off x="4686480" y="1773360"/>
              <a:ext cx="4114800" cy="28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4665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hall capacity ..35,000 outside overflow capacity.. 1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03280" y="122220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MOSQUE ...... PAKISTA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OFFICE   COMPLEX ... CHICAG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82720" y="685800"/>
            <a:ext cx="7378560" cy="5753160"/>
            <a:chOff x="882720" y="685800"/>
            <a:chExt cx="7378560" cy="5753160"/>
          </a:xfrm>
        </p:grpSpPr>
        <p:sp>
          <p:nvSpPr>
            <p:cNvPr id="175" name=""/>
            <p:cNvSpPr/>
            <p:nvPr/>
          </p:nvSpPr>
          <p:spPr>
            <a:xfrm>
              <a:off x="882720" y="685800"/>
              <a:ext cx="737856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720" y="6210360"/>
              <a:ext cx="737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icago Merchandise Mart... Illinois, USA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3080" y="1925640"/>
            <a:ext cx="4114800" cy="3019320"/>
            <a:chOff x="343080" y="1925640"/>
            <a:chExt cx="4114800" cy="3019320"/>
          </a:xfrm>
        </p:grpSpPr>
        <p:sp>
          <p:nvSpPr>
            <p:cNvPr id="179" name=""/>
            <p:cNvSpPr/>
            <p:nvPr/>
          </p:nvSpPr>
          <p:spPr>
            <a:xfrm>
              <a:off x="343080" y="1925640"/>
              <a:ext cx="4114800" cy="27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4716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outh China Mall, Dongguan, Chi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6480" y="1922400"/>
            <a:ext cx="4114800" cy="3025800"/>
            <a:chOff x="4686480" y="1922400"/>
            <a:chExt cx="4114800" cy="3025800"/>
          </a:xfrm>
        </p:grpSpPr>
        <p:sp>
          <p:nvSpPr>
            <p:cNvPr id="182" name=""/>
            <p:cNvSpPr/>
            <p:nvPr/>
          </p:nvSpPr>
          <p:spPr>
            <a:xfrm>
              <a:off x="4686480" y="1922400"/>
              <a:ext cx="4114800" cy="278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6480" y="4719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92,000 meter-square Shops on 6 flo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03280" y="1509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HOPPING   MAL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HOTEL ... LAS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8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GM Grand Hotel..Las Vegas..6,276 room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41240" y="685800"/>
            <a:ext cx="7659720" cy="5753160"/>
            <a:chOff x="741240" y="685800"/>
            <a:chExt cx="7659720" cy="5753160"/>
          </a:xfrm>
        </p:grpSpPr>
        <p:sp>
          <p:nvSpPr>
            <p:cNvPr id="87" name=""/>
            <p:cNvSpPr/>
            <p:nvPr/>
          </p:nvSpPr>
          <p:spPr>
            <a:xfrm>
              <a:off x="741240" y="685800"/>
              <a:ext cx="76597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240" y="6210360"/>
              <a:ext cx="765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ilt by KRUPP of Germany.....45,500 tons..95 meters high..215 meter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87280" y="285840"/>
            <a:ext cx="795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EXCAV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1247760"/>
            <a:ext cx="7772400" cy="4629240"/>
            <a:chOff x="685800" y="1247760"/>
            <a:chExt cx="7772400" cy="4629240"/>
          </a:xfrm>
        </p:grpSpPr>
        <p:sp>
          <p:nvSpPr>
            <p:cNvPr id="192" name=""/>
            <p:cNvSpPr/>
            <p:nvPr/>
          </p:nvSpPr>
          <p:spPr>
            <a:xfrm>
              <a:off x="685800" y="1247760"/>
              <a:ext cx="7772400" cy="4362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6484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lace of the Parliament... Bucharest , Romani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m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re than 500 bedrooms, 55 kitchens,120 sitting ro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32000" y="79056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PALACE ...... .ROMAN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0" y="797040"/>
            <a:ext cx="4114800" cy="5727600"/>
            <a:chOff x="4572000" y="797040"/>
            <a:chExt cx="4114800" cy="5727600"/>
          </a:xfrm>
        </p:grpSpPr>
        <p:sp>
          <p:nvSpPr>
            <p:cNvPr id="197" name=""/>
            <p:cNvSpPr/>
            <p:nvPr/>
          </p:nvSpPr>
          <p:spPr>
            <a:xfrm>
              <a:off x="4572000" y="7970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629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To be finally completed 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6720" y="765000"/>
            <a:ext cx="3700440" cy="5759280"/>
            <a:chOff x="666720" y="765000"/>
            <a:chExt cx="3700440" cy="5759280"/>
          </a:xfrm>
        </p:grpSpPr>
        <p:sp>
          <p:nvSpPr>
            <p:cNvPr id="200" name=""/>
            <p:cNvSpPr/>
            <p:nvPr/>
          </p:nvSpPr>
          <p:spPr>
            <a:xfrm>
              <a:off x="666720" y="765000"/>
              <a:ext cx="3700440" cy="5526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720" y="6303240"/>
              <a:ext cx="37004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rj Dubai....900 meter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TALLEST BUILDING ... DUBA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620640"/>
            <a:ext cx="4114800" cy="5753160"/>
            <a:chOff x="2514600" y="620640"/>
            <a:chExt cx="4114800" cy="5753160"/>
          </a:xfrm>
        </p:grpSpPr>
        <p:sp>
          <p:nvSpPr>
            <p:cNvPr id="205" name=""/>
            <p:cNvSpPr/>
            <p:nvPr/>
          </p:nvSpPr>
          <p:spPr>
            <a:xfrm>
              <a:off x="2514600" y="6206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61452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4d4d4d"/>
                  </a:solidFill>
                  <a:latin typeface="Arial"/>
                </a:rPr>
                <a:t>Burj Al Arab Hotel, Dubai..only 7 Star Hotel in the World</a:t>
              </a: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Cheapest room.$1000 per nigh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Royal suit.$28,000 per night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  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  MOST   EXPENSIVE HOTEL. DUBAI . U.A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740720" y="5950080"/>
            <a:ext cx="968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232000"/>
            <a:ext cx="7772400" cy="2658960"/>
            <a:chOff x="685800" y="2232000"/>
            <a:chExt cx="7772400" cy="2658960"/>
          </a:xfrm>
        </p:grpSpPr>
        <p:sp>
          <p:nvSpPr>
            <p:cNvPr id="92" name=""/>
            <p:cNvSpPr/>
            <p:nvPr/>
          </p:nvSpPr>
          <p:spPr>
            <a:xfrm>
              <a:off x="685800" y="2232000"/>
              <a:ext cx="7772400" cy="239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662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oplan Jumbo - cruiser....2 in 1 bus..double deck bus..170 passenger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258920" y="165420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BIGGEST BU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97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S Freedom of the Seas..4300 passenger Capacity In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58920" y="28584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ASSENGER-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50760" y="685800"/>
            <a:ext cx="7242480" cy="5753160"/>
            <a:chOff x="950760" y="685800"/>
            <a:chExt cx="7242480" cy="5753160"/>
          </a:xfrm>
        </p:grpSpPr>
        <p:sp>
          <p:nvSpPr>
            <p:cNvPr id="102" name=""/>
            <p:cNvSpPr/>
            <p:nvPr/>
          </p:nvSpPr>
          <p:spPr>
            <a:xfrm>
              <a:off x="950760" y="685800"/>
              <a:ext cx="72424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0760" y="6210360"/>
              <a:ext cx="72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Airbus A380.....555 Passen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LANE .... AIRB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3080" y="1947960"/>
            <a:ext cx="4114800" cy="2973240"/>
            <a:chOff x="343080" y="1947960"/>
            <a:chExt cx="4114800" cy="2973240"/>
          </a:xfrm>
        </p:grpSpPr>
        <p:sp>
          <p:nvSpPr>
            <p:cNvPr id="107" name=""/>
            <p:cNvSpPr/>
            <p:nvPr/>
          </p:nvSpPr>
          <p:spPr>
            <a:xfrm>
              <a:off x="343080" y="1947960"/>
              <a:ext cx="4114800" cy="273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3080" y="4692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J.F.K International Airpor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86480" y="1944720"/>
            <a:ext cx="4114800" cy="2981160"/>
            <a:chOff x="4686480" y="1944720"/>
            <a:chExt cx="4114800" cy="2981160"/>
          </a:xfrm>
        </p:grpSpPr>
        <p:sp>
          <p:nvSpPr>
            <p:cNvPr id="110" name=""/>
            <p:cNvSpPr/>
            <p:nvPr/>
          </p:nvSpPr>
          <p:spPr>
            <a:xfrm>
              <a:off x="4686480" y="1944720"/>
              <a:ext cx="4114800" cy="2739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6480" y="46972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York ........U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2000" y="143820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USIEST   AIRPORT..... NEW YORK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552760"/>
            <a:ext cx="7772400" cy="2017800"/>
            <a:chOff x="685800" y="2552760"/>
            <a:chExt cx="7772400" cy="2017800"/>
          </a:xfrm>
        </p:grpSpPr>
        <p:sp>
          <p:nvSpPr>
            <p:cNvPr id="115" name=""/>
            <p:cNvSpPr/>
            <p:nvPr/>
          </p:nvSpPr>
          <p:spPr>
            <a:xfrm>
              <a:off x="685800" y="2552760"/>
              <a:ext cx="7772400" cy="17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341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ydney harbor bridge, Australia ....16 lanes of car traffic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 lanes in the upper floor, 8 in the lower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03280" y="201456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WIDEST   BRIDGE .. AUSTRAL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954000"/>
            <a:ext cx="7772400" cy="5216760"/>
            <a:chOff x="685800" y="954000"/>
            <a:chExt cx="7772400" cy="5216760"/>
          </a:xfrm>
        </p:grpSpPr>
        <p:sp>
          <p:nvSpPr>
            <p:cNvPr id="120" name=""/>
            <p:cNvSpPr/>
            <p:nvPr/>
          </p:nvSpPr>
          <p:spPr>
            <a:xfrm>
              <a:off x="685800" y="954000"/>
              <a:ext cx="7772400" cy="495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59421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Donghai Bridge , China ........32.5 kilome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32000" y="50148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ONGEST   BRIDGE ..... CHIN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2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terstate 10 Highways Interchange.. Houston , Tex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MOST   COMPLEX   INTER-CHANGE ... TEXA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8:59:13Z</dcterms:created>
  <dc:creator>Yiorgos Evlogimenos</dc:creator>
  <dc:description/>
  <dc:language>en-US</dc:language>
  <cp:lastModifiedBy>Yiorgos Evlogimenos</cp:lastModifiedBy>
  <dcterms:modified xsi:type="dcterms:W3CDTF">2008-01-19T20:32:59Z</dcterms:modified>
  <cp:revision>9</cp:revision>
  <dc:subject/>
  <dc:title>GUINNESS BOOK OF WORLD RECORDS  ENGINEERING FEATS </dc:title>
</cp:coreProperties>
</file>